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7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9.jpeg" ContentType="image/jpeg"/>
  <Override PartName="/ppt/media/Turkey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1CF98-0725-45D4-A0C4-B32D2903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202DB-D8A8-4459-B37B-EA5CA0AF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DF34E-A7C0-4A07-BD61-1D709931A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460414-1918-43F4-AB17-A1A0CC50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21EF3-8AA9-4590-B947-0517EBA19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7AA5-23F6-4F35-9751-060A9BEE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28FD-A046-494C-9671-40E04891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584B6-455D-4043-A2A0-92CD4C8E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063E-F1DF-404E-A0DF-F9A069EA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466A-F5A6-4B76-8E83-935F495C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5919-858E-4226-A830-C32CD739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7751-E701-457A-8277-DAFB6CBB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6C2B3-91E2-4D6B-B09E-CD3A6FD0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EE1E2-8965-4FE9-9AAA-AA464E5C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CED7-4289-4C5A-994D-8446D4E3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67A4-6C21-4AC7-AF6A-75055461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F0F6A-8C1A-49B1-BB78-D26C4469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7C52-706F-47CC-9285-4CF87824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ED9F-7DC5-47D3-8303-36F18156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A719-B039-4069-9CB5-73B8565E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15363-0BF4-42B6-A237-74ABC667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1FBAC-C986-40C3-9987-5AF01687D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6CD38-0923-412B-AA0F-A9244698C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0BCD2-6E06-4E3F-ABAA-BF1F407A0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D9DD-248F-4F21-919D-E665758B3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F9ED-F534-4797-8359-CBB891BF57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2.gif"/><Relationship Id="rId4" Type="http://schemas.openxmlformats.org/officeDocument/2006/relationships/audio" Target="../media/Turkey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7a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TURKE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apter 17 Section 1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5375520" cy="59515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sporus Stra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 of Marm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da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429000" y="3429000"/>
            <a:ext cx="1447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352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28195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2767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0481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kish S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8229600" y="68580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tolia Platea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n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ur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0" y="609480"/>
            <a:ext cx="3747960" cy="5662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594360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% Far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tton, Tobac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Indus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2997000" cy="2819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8001000" y="68580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8% Muslim - Mos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urds – 2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001000" y="609480"/>
            <a:ext cx="647640" cy="476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2781360" cy="1676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581280" y="3124080"/>
            <a:ext cx="5400720" cy="3514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O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tanb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kara -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7229520" cy="310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001000" y="60948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819520" y="22096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1981080"/>
            <a:ext cx="28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zant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743200" y="342900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4495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952880" y="29718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antin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4852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tanb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010280" y="1523880"/>
            <a:ext cx="1724040" cy="2743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001000" y="60948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TOMAN EMPIRE – WWI – Def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mal Atatu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rnized Tur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495680" y="2971800"/>
            <a:ext cx="4648320" cy="3276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1828800" y="4724280"/>
            <a:ext cx="1233360" cy="15908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8001000" y="609480"/>
            <a:ext cx="647640" cy="476280"/>
          </a:xfrm>
          <a:prstGeom prst="rect">
            <a:avLst/>
          </a:prstGeom>
          <a:ln w="0">
            <a:noFill/>
          </a:ln>
        </p:spPr>
      </p:pic>
    </p:spTree>
  </p:cSld>
  <p:transition>
    <p:newsflash/>
    <p:sndAc>
      <p:stSnd>
        <p:snd r:embed="rId4" name="Turkey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7T18:01:39Z</dcterms:created>
  <dc:creator>Joe Dirt</dc:creator>
  <dc:description/>
  <dc:language>en-US</dc:language>
  <cp:lastModifiedBy>Joe Dirt</cp:lastModifiedBy>
  <dcterms:modified xsi:type="dcterms:W3CDTF">2008-01-04T18:50:31Z</dcterms:modified>
  <cp:revision>4</cp:revision>
  <dc:subject/>
  <dc:title>Southwest Asia</dc:title>
</cp:coreProperties>
</file>